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447-8BF1-47E0-A97E-5E06FE1B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252-D7C8-4F78-8707-89E6EE7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EE9-6009-4EF3-A9E8-5B9679B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829-C6C7-4C3E-BB3D-F8F32F86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99D-CD5B-4A1F-8142-891A13A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7B5-1EC6-4B97-960A-346B5E2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A7C-36CC-4A85-837E-080AF552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669-2D89-4B63-87EA-0F74D6B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7B9-CBBD-44D1-90F2-68CD0E6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B2B-B890-4894-BAB1-29A6F0F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DAF-EC7C-4FB0-A3C0-6FAE550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89F-E124-4AA1-8472-C9E1FDB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1EB-990B-43D5-A405-4DFF8BE7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th July 19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447920"/>
            <a:ext cx="357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Health Service (NHS) is founded in Britain, for the first time providing free health car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1722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r. Wright, 7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00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3:05:20Z</dcterms:created>
  <dc:creator>Dulwich</dc:creator>
  <dc:description/>
  <dc:language>en-US</dc:language>
  <cp:lastModifiedBy>Dulwich</cp:lastModifiedBy>
  <dcterms:modified xsi:type="dcterms:W3CDTF">2007-11-16T03:14:24Z</dcterms:modified>
  <cp:revision>1</cp:revision>
  <dc:subject/>
  <dc:title>PowerPoint Presentation</dc:title>
</cp:coreProperties>
</file>